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DCDD-3E45-406B-A057-2E7279FC6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my name is Beth Kremer, Health Education Programs Advisor here in Local District 6.  I‘m here to update you on what is happening with our tea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eam members are visiting school sites.  When we see bulletin boards or posters, etc. showing evidence of behavioral expectations we are documenting them with a photo.  If you have photos showing evidence of behavioral expectations please send them in.  We will be putting this together in a montage to be shown at next month’s Operation’s Meeting.  If you have photos, please submit to Nancy Robin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id not place an order for incentives or to receive staff development, please do so right away.  We want to be able to serve our schools before the end of the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16B44-1B83-43D4-882B-CD304251C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1C34B-5ED1-4DED-B9A5-E3AD6815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BE03F-50FB-48CA-84D7-862035B66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D6130-2E05-492D-ADCB-14488DC3C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E2F9-E342-4970-B3F3-79D08E166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0B3ED-8C3E-48F5-A702-12292382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8B200-A721-414E-A583-BF7DA85E8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6C2A-DCD9-4633-A16A-271D11B4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0C50-A15F-438A-AD95-2A1E40519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FF60-44A7-46F2-BF48-83614A549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5F3F-5E8C-4F41-B517-52A7BBC21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4CB7-E77A-4BDA-8A5E-33B569DDE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2DCC-90D4-43E8-BE29-82ACFF1E4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Wide Positive Behavior Suppor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April 16,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 Opportunit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submit photo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re taking photo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Month:  Photo Montage for S-WPBS Strategie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photos to Nancy Robinso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nancy.robinson@lausd.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PBS Fund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Orders were due Wednesday, April 15, 200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id not place an order, please do so AS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5:10:04Z</dcterms:created>
  <dc:creator>beth.kremer</dc:creator>
  <dc:description/>
  <dc:language>en-US</dc:language>
  <cp:lastModifiedBy>beth.kremer</cp:lastModifiedBy>
  <dcterms:modified xsi:type="dcterms:W3CDTF">2009-04-13T17:10:29Z</dcterms:modified>
  <cp:revision>7</cp:revision>
  <dc:subject/>
  <dc:title>School-Wide Positive Behavior Support </dc:title>
</cp:coreProperties>
</file>